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F3F-4191-4143-BA38-41D18D27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F00-C619-4AEC-8ADD-4CC412B7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6B5-7475-44E6-B1BE-03029A3D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3F4-3EDA-430F-83E5-3F12BA58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48D3-294E-4CAC-8ADB-4B3FC2C6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6913-A8A4-4966-AD46-7038126A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B8E8-F4CD-4A78-9556-50E2BBF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A698-F4A1-4C25-B5D1-3C14B5A4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4748-20F9-4C73-918A-5720F9B6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F0AC-100B-43C4-B46D-31D0E2B5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EBCD-BAAC-4B83-AF53-A19563BB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0CE-7BD1-4D1F-8C9D-D5D57B49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B753-55AF-4F64-8581-5BD66BD0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9782-B37F-45A5-9F5A-B4B3A72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9977-BBAD-46C2-B33F-4F4B5A64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0E91-790A-4C0B-90F4-CEA6D10E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9CC8-91F0-4B4B-B919-D68306B2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CEF-C66F-4285-9807-7C4C6F6A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DE8-1081-4175-9838-7E241ABD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D27-F8CB-4266-9DCB-A5351F38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03A-5865-49AB-AA38-FA9FBA9B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8B6-1A42-4148-99DD-82B83928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210-F862-4FF6-9483-BEE11042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17D-35ED-423B-A915-06C198BA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A43E-8A7A-49FF-90EF-880E856F0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2D98-E628-4E4A-B364-7BB39790F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ff5050"/>
                </a:solidFill>
                <a:latin typeface="Bodoni MT Black"/>
              </a:rPr>
              <a:t>Формы, методы и средства дистанционного обучения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9360" y="3927240"/>
            <a:ext cx="688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вторы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Логинова Снежа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Караваева Галина Павловна 636 гр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Программно-техническое обеспечение, необходимое для проведения учебного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Компьютер(ы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Видеомагнитофо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Проекцион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Литература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Андреев А.А. Солдаткин В.И. Дистанционное образование сущность, технология, организация. М.: Из – во МЭСИ, 199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Захарова И.Г. Информационные технологии  в образовании. М.: Издательский центр «Академия» 200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Молат Е.С. Дистанционное обучение: организующие педагогические аспекты, Инфо – 1996. - № 3 – с. 87 – 9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Шабанов А.Г. Формы методы и средства в дистанционном обучении. Инновации в образовании – 2005 № 2 – с. 102 - 1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Приглашаем к активному участию в нашем проект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Дистанционное образование эт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Дистанционное образ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692360" y="4005360"/>
            <a:ext cx="172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400536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4005360"/>
            <a:ext cx="1872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3141720"/>
            <a:ext cx="7848360" cy="12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Дистанционное образов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5229360"/>
            <a:ext cx="273672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мосто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5589720"/>
            <a:ext cx="2520720" cy="7696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Усвоение и приобретение зн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00720" y="5013360"/>
            <a:ext cx="2498760" cy="79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овышение компетент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68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68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Дистанционное образование, что эт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Дистанционное образование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- комплекс образовательных услуг, предоставляемых населению , в стране и за рубежом  с помощью специализированной информационно-образовательной среды на любом расстоянии от образовательных учрежд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Дистанционное обучение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- образовательная система на основе компьютерных телекоммуникаций с использованием современных педагогических и информационных технологий ,таких как, электронная почта, телевидение и Интернет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5050"/>
                </a:solidFill>
                <a:latin typeface="Impact"/>
              </a:rPr>
              <a:t>Цель нашего проекта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Познакомить студентов с формами, методами и средствами дистанционного обучени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Bodoni MT Black"/>
              </a:rPr>
              <a:t>Проблемные вопросы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1)  Какие методы будут более эффективны при дистанционном обучени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2)  Как организовать дистанционное обуч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3)  Какие средства можно использовать при дистанционном обучении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Участники исследования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Студенты Педколледжа №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Arial"/>
              </a:rPr>
              <a:t>Методические задачи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1)Формирование компетентности в области дистанционного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2) Сформировать представления о дистанционном обучен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3)Развитие самостоятельности в сфере дистанционного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5050"/>
                </a:solidFill>
                <a:latin typeface="Arial"/>
              </a:rPr>
              <a:t>Краткая аннотация проекта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9966"/>
                </a:solidFill>
                <a:latin typeface="Arial"/>
              </a:rPr>
              <a:t>Наш проект направлен на формирование у студентов определённых знаний, умений и навыков в области дистанционного обучен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Arial"/>
              </a:rPr>
              <a:t>Для выполнения нашего проекта требуется 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ff9966"/>
                </a:solidFill>
                <a:latin typeface="Arial"/>
              </a:rPr>
              <a:t>2 – 4 учебных час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</a:rPr>
              <a:t>Компетентности которые формирует наш проект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1)В сфере самостоятельной деяте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2)Основанные на усвоении способов     приобретения знаний из различных источников информ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6:16:31Z</dcterms:created>
  <dc:creator>Customer</dc:creator>
  <dc:description/>
  <dc:language>en-US</dc:language>
  <cp:lastModifiedBy>Customer</cp:lastModifiedBy>
  <dcterms:modified xsi:type="dcterms:W3CDTF">2009-05-29T13:54:43Z</dcterms:modified>
  <cp:revision>11</cp:revision>
  <dc:subject/>
  <dc:title>Формы, методы и средства дистанционного обучения. </dc:title>
</cp:coreProperties>
</file>